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7801-16DA-4492-BB6E-55AE3C70A48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onents of the bl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o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questions on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lood made up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plasm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 different parts of blood look like under a microscop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job of red blood cel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+ haemoglobin         oxyhaemoglo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bodies which can recognise and fight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antitoxins which neutralise the toxins (poisons) that bacteria produce, which make us feel 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platelets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the composition of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7786-7AA8-46A9-8FBA-B7F238C5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E53-FE55-423D-B113-8A76094A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1E6-582C-400C-8FFB-52BD64B6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D17-3390-40F5-A834-2433735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6D1-80F5-41B8-B34A-7B722DA5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C0D-6E88-43D2-A618-728170F1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D5CC-E6AE-4A71-BBC5-FE900EF5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629-0D79-44AF-9A4B-FB4DB98A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99B-48F6-4CB6-913A-937B4841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E7A-85DE-4FF3-ACB0-24CB7BD8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BE6-249F-47F6-9773-5EB2F14B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3D2-67CE-4C38-BE74-F6A9E66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7B7-3493-4625-B6AD-EAC66354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he components of the bloo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d their j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Questions on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part of blood carries oxygen to cell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 are red blood cells flat disc-sha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job of platele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do white blood cell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 how a white blood cell carries out its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at is the straw-coloured liquid which carries all the other parts of blood cal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ore questions on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me cell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blood1"/>
          <p:cNvPicPr/>
          <p:nvPr/>
        </p:nvPicPr>
        <p:blipFill>
          <a:blip r:embed="rId1"/>
          <a:stretch/>
        </p:blipFill>
        <p:spPr>
          <a:xfrm>
            <a:off x="2895480" y="198108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828800" y="2438280"/>
            <a:ext cx="1905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H="1" flipV="1">
            <a:off x="6019560" y="4038480"/>
            <a:ext cx="228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09588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44792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blood made up o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d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reakdown products of digestion, such as glucose, fatty acids and amino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solved mineral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is plasm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the liquid part of the blood which carries every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lasma is a straw-yellow coloured liq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f everything in plasma was removed, plasma would look like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4"/>
          <p:cNvGraphicFramePr/>
          <p:nvPr/>
        </p:nvGraphicFramePr>
        <p:xfrm>
          <a:off x="6400800" y="4191120"/>
          <a:ext cx="6080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191120"/>
                    <a:ext cx="6080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do the different parts of blood look like under a microscop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blood"/>
          <p:cNvPicPr/>
          <p:nvPr/>
        </p:nvPicPr>
        <p:blipFill>
          <a:blip r:embed="rId1"/>
          <a:stretch/>
        </p:blipFill>
        <p:spPr>
          <a:xfrm>
            <a:off x="1219320" y="1905120"/>
            <a:ext cx="6248160" cy="4419360"/>
          </a:xfrm>
          <a:prstGeom prst="rect">
            <a:avLst/>
          </a:prstGeom>
          <a:ln w="0">
            <a:noFill/>
          </a:ln>
        </p:spPr>
      </p:pic>
      <p:sp>
        <p:nvSpPr>
          <p:cNvPr id="61" name="Line 4"/>
          <p:cNvSpPr/>
          <p:nvPr/>
        </p:nvSpPr>
        <p:spPr>
          <a:xfrm>
            <a:off x="762120" y="2666880"/>
            <a:ext cx="914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14400" y="3124080"/>
            <a:ext cx="609480" cy="6098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0" y="26668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 flipV="1">
            <a:off x="5486040" y="3809520"/>
            <a:ext cx="2057400" cy="3812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4419720" y="2666520"/>
            <a:ext cx="3124080" cy="121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467480" y="3809880"/>
            <a:ext cx="10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What is the job of red blood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have a round, flat disc shape for a large surfac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do not have a 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y contain haemoglobin which combines with oxygen in areas of high concentration to form oxyhaemoglo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Oxygen + haemoglobin         oxyhaemoglo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d blood cells carry oxygen to the cells of the body for use in respi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red-blood-cells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Line 7"/>
          <p:cNvSpPr/>
          <p:nvPr/>
        </p:nvSpPr>
        <p:spPr>
          <a:xfrm>
            <a:off x="2666880" y="46483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white blood cell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help the body to figh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ite blood cells will engulf and ingest invading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engulfing bacteria"/>
          <p:cNvPicPr/>
          <p:nvPr/>
        </p:nvPicPr>
        <p:blipFill>
          <a:blip r:embed="rId1"/>
          <a:stretch/>
        </p:blipFill>
        <p:spPr>
          <a:xfrm>
            <a:off x="685800" y="2070000"/>
            <a:ext cx="3809880" cy="39355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ther important jobs of the white blood cel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bodie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can recognise and fight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y produce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itoxi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hich neutralise the toxins (poisons) that bacteria produce, which make us feel 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hat do platele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telets are fragments of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job of platelets is to help blood clot and form a sc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platelets are involved in the formation of fibrin, which is needed for clotting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useful for stopping bleeding, and for preventing germs from entering the body through the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ummary of the composition of bl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blood composition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5:39:52Z</dcterms:created>
  <dc:creator> </dc:creator>
  <dc:description/>
  <dc:language>en-US</dc:language>
  <cp:lastModifiedBy>LEGION</cp:lastModifiedBy>
  <dcterms:modified xsi:type="dcterms:W3CDTF">2016-12-07T08:32:40Z</dcterms:modified>
  <cp:revision>7</cp:revision>
  <dc:subject/>
  <dc:title>The components of the blood </dc:title>
</cp:coreProperties>
</file>